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2028-5D7E-4BE2-9457-629209F6B6A5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MASQUE_PPT_CGI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F9C-4CDF-4B0E-B03D-1E0A74D2C2E5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5" name="Connecteur droit 7"/>
          <p:cNvSpPr/>
          <p:nvPr/>
        </p:nvSpPr>
        <p:spPr>
          <a:xfrm>
            <a:off x="457200" y="34290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903-35E5-4864-9B31-92FFA27CB31A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127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8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4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EC8-8A9E-49B5-94B4-D8B1FC550107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69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170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1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EE5-834F-4E16-A6AF-1FF01C7AA810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212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4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6"/>
          </p:nvPr>
        </p:nvSpPr>
        <p:spPr>
          <a:xfrm>
            <a:off x="456840" y="6248160"/>
            <a:ext cx="5181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389F-BFAB-4EC6-BDBB-2B13154FF9A3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4267080" y="662940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C17-73B4-4D5C-86BE-F55B50FCB675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- TITRE DE LA PRÉSENTATION - 00/00/2006</a:t>
            </a:r>
            <a:endParaRPr b="0" lang="en-US" sz="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657600"/>
            <a:ext cx="5676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573120"/>
                <a:tab algn="l" pos="762120"/>
                <a:tab algn="l" pos="95076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3366"/>
                </a:solidFill>
                <a:latin typeface="Arial"/>
              </a:rPr>
              <a:t>TITRE DE LA PRÉSENTATION</a:t>
            </a:r>
            <a:br>
              <a:rPr sz="2400"/>
            </a:br>
            <a:r>
              <a:rPr b="0" lang="fr-FR" sz="2400" spc="-1" strike="noStrike">
                <a:solidFill>
                  <a:srgbClr val="0f3366"/>
                </a:solidFill>
                <a:latin typeface="Arial"/>
              </a:rPr>
              <a:t>SUR TROIS LIGNES MAXIMUM</a:t>
            </a: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3"/>
          <p:cNvSpPr/>
          <p:nvPr/>
        </p:nvSpPr>
        <p:spPr>
          <a:xfrm>
            <a:off x="4267080" y="662940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EC0-1373-4764-B317-96993ADE3771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- TITRE DE LA PRÉSENTATION - 00/00/2006</a:t>
            </a:r>
            <a:endParaRPr b="0" lang="en-US" sz="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964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a2972"/>
                </a:solidFill>
                <a:latin typeface="Arial"/>
              </a:rPr>
              <a:t>TITRE DE CHAPITRE SUITE </a:t>
            </a:r>
            <a:br>
              <a:rPr sz="2800"/>
            </a:b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447a"/>
                </a:solidFill>
                <a:latin typeface="Arial"/>
              </a:rPr>
              <a:t>A. Sous-titre de chapitre, niveau 1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7a"/>
                </a:solidFill>
                <a:latin typeface="Arial"/>
              </a:rPr>
              <a:t>Texte de niveau 2</a:t>
            </a:r>
            <a:endParaRPr b="0" lang="en-US" sz="2000" spc="-1" strike="noStrike">
              <a:solidFill>
                <a:srgbClr val="4a7aaf"/>
              </a:solidFill>
              <a:latin typeface="Arial"/>
            </a:endParaRPr>
          </a:p>
          <a:p>
            <a:pPr lvl="2" marL="239760" indent="-228600">
              <a:spcBef>
                <a:spcPts val="425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447a"/>
                </a:solidFill>
                <a:latin typeface="Arial"/>
              </a:rPr>
              <a:t>Texte de niveau 3</a:t>
            </a:r>
            <a:endParaRPr b="1" lang="en-US" sz="1700" spc="-1" strike="noStrike">
              <a:solidFill>
                <a:srgbClr val="0a2972"/>
              </a:solidFill>
              <a:latin typeface="Arial"/>
            </a:endParaRPr>
          </a:p>
          <a:p>
            <a:pPr lvl="3" marL="2430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447a"/>
                </a:solidFill>
                <a:latin typeface="Arial"/>
              </a:rPr>
              <a:t>Texte de niveau 4</a:t>
            </a:r>
            <a:endParaRPr b="0" lang="en-US" sz="1700" spc="-1" strike="noStrike">
              <a:solidFill>
                <a:srgbClr val="8e8476"/>
              </a:solidFill>
              <a:latin typeface="Arial"/>
            </a:endParaRPr>
          </a:p>
          <a:p>
            <a:pPr lvl="4" marL="662040" indent="-228600">
              <a:spcBef>
                <a:spcPts val="425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447a"/>
                </a:solidFill>
                <a:latin typeface="Arial"/>
              </a:rPr>
              <a:t>Texte de niveau 5</a:t>
            </a:r>
            <a:endParaRPr b="0" lang="en-US" sz="1700" spc="-1" strike="noStrike">
              <a:solidFill>
                <a:srgbClr val="4a7a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0:29:20Z</dcterms:created>
  <dc:creator> </dc:creator>
  <dc:description/>
  <dc:language>en-US</dc:language>
  <cp:lastModifiedBy>Laurent</cp:lastModifiedBy>
  <dcterms:modified xsi:type="dcterms:W3CDTF">2013-12-11T15:58:37Z</dcterms:modified>
  <cp:revision>61</cp:revision>
  <dc:subject/>
  <dc:title>CGI</dc:title>
</cp:coreProperties>
</file>